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780630"/>
        <c:axId val="26174794"/>
      </c:barChart>
      <c:catAx>
        <c:axId val="717806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174794"/>
        <c:crosses val="autoZero"/>
        <c:auto val="1"/>
        <c:lblAlgn val="ctr"/>
        <c:lblOffset val="100"/>
        <c:noMultiLvlLbl val="0"/>
      </c:catAx>
      <c:valAx>
        <c:axId val="261747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7806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446F-D547-4A4F-8C77-751523625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3CE0-650B-45F9-A5FE-F964835F6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B06F-ED89-47C6-A997-681B3E398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6EBB-E349-4C22-8855-4BC67763B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BC45-1D12-4046-BE80-A3A3DC3C8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9804-8D4D-4028-92B3-C8B6612CF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E518-0784-45B4-B34F-10AA5F4F5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D8B4-3FE7-456B-A8DC-FD883C725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9E95-4C47-44FE-B002-2CB1977AD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0229-5893-4AB5-85E9-210A9E65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196F-36C9-4C79-9D0A-BCD02040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A507-E370-45D4-AD84-56EFD018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854536-0315-4E58-BA8D-54BEE9A4A0D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